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2D3-5C8E-492F-A69F-B280F09E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D96-4429-4E1E-AFE4-2490FD99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E22-3554-4CEB-AB3C-941DC697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53E-5EAC-4957-A98A-2E323A85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593-6BD9-402C-BCFA-B8E01997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0393-ECB6-421C-A50D-268CB5FA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BDA4-A6C6-4F7B-AC61-F4A3045E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4959-CC0A-42D2-BAD5-6A23078C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B024-E7A0-4AEE-AB75-F5AD2E73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056A-F651-475D-A710-4B52617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944D-0053-41C0-AD15-B083094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E2C-A535-4AD0-A883-4CA590F4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D285-3FC6-4E72-A881-62A9819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FD35-1BAE-41ED-B809-ECF3EDE0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9BDD-4AC7-4A44-8951-67DC647C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28CD-AF9E-4A72-9F01-8968DD23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B6F0-875F-474E-A0B3-E97008DA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F06-DFEA-4D25-A83C-F9605B86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104-A625-45CB-9D54-8FBFF4A4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00D-1EB2-47F9-BB22-5EA37F49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D80-754D-4805-81CE-BD77012B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579-39F8-46EF-A0E9-B2ADE72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EB5-9BA2-40A0-9927-E3DDCD1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1E8-CA1E-47A2-AB70-BA20BB8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9E41-3C46-4590-AFB8-9A3536BA9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1FF3-58AD-4439-9C7E-492BA1AEC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esday, August 10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 will have an understanding of the classroom policies and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work:  What is your goal for this class?  How will you achieve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Note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:  Syllabus Quiz Thurs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ursday, August 12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nd, communicate and evaluate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Sketch a visual pattern and describe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MS-Radic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sell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 Create a tessellation, AIMS Radical Sh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11:18Z</dcterms:created>
  <dc:creator>tstephens</dc:creator>
  <dc:description/>
  <dc:language>en-US</dc:language>
  <cp:lastModifiedBy>tstephens</cp:lastModifiedBy>
  <dcterms:modified xsi:type="dcterms:W3CDTF">2010-08-16T21:18:57Z</dcterms:modified>
  <cp:revision>5</cp:revision>
  <dc:subject/>
  <dc:title>Geometry 1 Thursday, August 13, 2009</dc:title>
</cp:coreProperties>
</file>